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6AD-0554-45B4-AC4D-B301838C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7F0-22ED-42EA-BF09-1EA4A44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3C0-7903-4CF2-B6A1-FB36E54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216-A246-43C1-B38B-2AD32629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3C8-E550-493A-9A57-BFE5F1F9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7CE-75AE-48E0-ADB0-21E0472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0BB-DD4C-4D2A-81D5-797168E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BC5-EE25-48B3-A825-15C26FF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91A6-03A6-4C23-9FA8-8C3309DD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F43-F2DD-43B5-81F4-826EEFC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E903-86D1-4D03-9583-7E71409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F90-91A4-4A48-A2B3-A397E83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212-54C8-4743-832D-F983A25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ACEA-85CE-456D-AB2E-DD6A23D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DFA4-6076-42E7-89FA-EC40C46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7301-396F-4BFD-AA03-EF76EC1D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4E6-66C8-4102-B917-F758830F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ABE-98FB-4AD7-AF36-69ACFBC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B98-D881-4EAA-9420-12EAEB7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98D-2752-4FA7-9BE6-A0F26CAB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7D8-2C8C-43A4-920A-5E8A91E5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1AC-AA55-4DE9-B777-C807DC0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503-B4D1-42E7-93DF-BBA14BF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40B-8D1E-47F3-B441-83E90CC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5BE-308F-45C8-9F7F-0BE93140A9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F936-7601-4C16-B94C-D3BF0DA175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milymebel.ru/images/kak_pravilno_sidet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500040" y="51436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 учитель русского языка и литератур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Петропавловская СОШ п.Петропавловск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лябинской области Облакова С.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85880" y="14288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АЛИЗ УРОКА С ПОЗИЦИЙ ЗДОРОВЬЕСБЕРЕЖ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24000" y="501336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1164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39640" y="404640"/>
            <a:ext cx="8201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ой здоровьесберегающих технологий являетс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людение следующих принцип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773360"/>
            <a:ext cx="835164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187280" y="191628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т состояния здоровья школьника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психофизических особенносте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ыбор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, методов, средст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50920" y="328464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10" descr=""/>
          <p:cNvPicPr/>
          <p:nvPr/>
        </p:nvPicPr>
        <p:blipFill>
          <a:blip r:embed="rId1"/>
          <a:stretch/>
        </p:blipFill>
        <p:spPr>
          <a:xfrm>
            <a:off x="530280" y="3419640"/>
            <a:ext cx="7967520" cy="1055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684360" y="5084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ие здоровьесберегающих действи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сохранения работоспособ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сширения функциональных возможностей организ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85840" y="28576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видов учеб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х сме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тельность и чередован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лечения от учебной работы 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857840" y="3000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ьм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уш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ка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наглядностью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ИК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ет на вопро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олнение упражн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643800" y="14288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715000" y="2286000"/>
            <a:ext cx="31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редование вид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ебной деятель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040" y="2286000"/>
            <a:ext cx="4175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тимальная плотность уро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857680" y="1428840"/>
            <a:ext cx="72720" cy="792000"/>
          </a:xfrm>
          <a:prstGeom prst="downArrow">
            <a:avLst>
              <a:gd name="adj1" fmla="val 50000"/>
              <a:gd name="adj2" fmla="val 272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28760" y="35712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доровьесберегательные действия учител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и организации учеб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981000"/>
          <a:ext cx="8209080" cy="5883480"/>
        </p:xfrm>
        <a:graphic>
          <a:graphicData uri="http://schemas.openxmlformats.org/drawingml/2006/table">
            <a:tbl>
              <a:tblPr/>
              <a:tblGrid>
                <a:gridCol w="2874960"/>
                <a:gridCol w="1755720"/>
                <a:gridCol w="1758960"/>
                <a:gridCol w="18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лотность урока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60% и не более 75-8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-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няя продолжительность различных видов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 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ота чередования различных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не позже чем 7-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деятельност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3-х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видов преподаван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позже чем 10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чередуетс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и длительность применения ИК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ует нормам СанПин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51"/>
          <p:cNvSpPr/>
          <p:nvPr/>
        </p:nvSpPr>
        <p:spPr>
          <a:xfrm>
            <a:off x="714240" y="357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птимальная плотность урок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1214280"/>
          <a:ext cx="8497800" cy="5131080"/>
        </p:xfrm>
        <a:graphic>
          <a:graphicData uri="http://schemas.openxmlformats.org/drawingml/2006/table">
            <a:tbl>
              <a:tblPr/>
              <a:tblGrid>
                <a:gridCol w="2604960"/>
                <a:gridCol w="2038320"/>
                <a:gridCol w="2214720"/>
                <a:gridCol w="1639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позы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чередуется в соответствии с видом работы. Учитель наблюдает за посадкой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меются случаи несоответствия позы виду работы. Учитель иногда контролирует посадку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не контролируется учителем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личие, место, содержание и продолжительность физкультминуток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 20-35 мин. урока по 1 мин. из 3-х легких упражнений 3-4 повторениями каждог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физминутка  с неправильным содержанием и продолжи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сутствует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мент наступления утомления учащихся по снижению учебной актив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4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35-37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3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2"/>
          <p:cNvSpPr/>
          <p:nvPr/>
        </p:nvSpPr>
        <p:spPr>
          <a:xfrm>
            <a:off x="78588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доровьесберегающие действия учител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14200" y="476280"/>
            <a:ext cx="8929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авильная поза ученика во время занятий за столо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на сиденья стула должна соответствовать длине бедер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сота ножек стула должна равняться длине голени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еностопный, коленный, тазобедренный суставы при сидении образуют прямой угол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жду краем стола и грудной клеткой сидящего ученика необходимо выдерживать расстояние равное ширине кисти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тояние от глаз до стола (тетради, книги) соответствует 30-35 см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традь при письме должна лежать на столе под углом 30 градус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5 из 8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14800" y="5572080"/>
            <a:ext cx="25002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14240" y="428760"/>
            <a:ext cx="84297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0" y="1937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личие мотивации к учебной деятельности на уроке: интерес к занятиям, стремление больше узнать, радость от активности, интерес к изучаемому материалу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тсутствие микроконфликтов между учителем и учащимися: из-за нарушений дисциплины, несогласия с отметкой, проявления дискомфортных состоя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Умение учителя предупредить эмоционально-негативные «всполохи», грамотно их нейтрализовать без нарушения работы всего класс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1805400"/>
            <a:ext cx="914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ыражение лица учителя, проявление различных эмоций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. Урок неполноценен, если на нем не было эмоционально-смысловых разрядок: улыбок, уместных остроумных шуток и т.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 Мотивация учащихся на сохранение и укрепление здоровь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357120" y="214200"/>
            <a:ext cx="8501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071720" y="549360"/>
            <a:ext cx="73580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нитарно-гигиенические услов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ого поме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18028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пература, свежесть воздух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освещение класса и дос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использование образовательного пространства класса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тота и порядок в кабинете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зеленение кабине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раздра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3:48Z</dcterms:created>
  <dc:creator>ученик 4_2</dc:creator>
  <dc:description/>
  <dc:language>en-US</dc:language>
  <cp:lastModifiedBy>Admin</cp:lastModifiedBy>
  <dcterms:modified xsi:type="dcterms:W3CDTF">2011-10-18T11:23:52Z</dcterms:modified>
  <cp:revision>10</cp:revision>
  <dc:subject/>
  <dc:title>Слайд 1</dc:title>
</cp:coreProperties>
</file>